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D70-3D75-4279-9A07-DF6298C7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0EF-1A33-4390-A9D4-FF37EA8B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12E-C853-426C-A126-58F49AF4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098-9453-4EB5-A4E2-680497E8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1275-FCC1-4BDC-A8ED-FE323B94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046F-EAB1-48A6-A80D-1BD6E8F4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0711-7184-4C7B-A296-C62C2A6D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C8EA-F772-43F4-9DEC-AF774535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7DD5-B516-42ED-BF63-C3DD33C5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27E0-D738-43D7-87BF-5BCD9D74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C158-00D5-407B-89EB-891DE1FC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A02-B9EE-4082-9B54-D6363DCE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1EE9-1FCA-4F49-BD2F-69A61479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43A5-9E4F-4E77-B909-9B7C0CC4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991C-ACC0-4924-983B-67F25DD8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7FA8-DB2E-4DCA-9523-1A14B30F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4B07-6AD1-44F2-961F-EE62FBA0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FBB-9D6E-4696-94B7-60CC20FB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3CF-5C04-4107-B307-46030615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EB3-134D-4E19-9A7B-77392384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3E8-B7DF-4C1E-AF10-2FD91D4B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11E-2CBF-4ADB-B39A-F44D70CD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D07-F1AB-4596-86F4-F04FA518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4A1-546D-4882-8F57-5CACEA31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C4A6-4A94-4477-B098-D3AEC89C6C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2F86-2EAC-4436-B3B4-08E24B31FB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cKenneman, Inc.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RAM Propos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 Tea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ay Hoff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ry Kenne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landa McCulloug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nse Amp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27240" y="1827360"/>
            <a:ext cx="399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nse Amp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1 microns wi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igned to be same width as bitcell so it can be easily wired to the ar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:16 Deco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85840" y="1827360"/>
            <a:ext cx="588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:16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 2:4 decoders combi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 of these make up 7:128 deco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microns long to connect with buffers to the memory ar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80960" y="2792520"/>
            <a:ext cx="7290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tatist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 estimated to be 5478 microns by 1415 micr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e Area: 7,751,370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ludes memory array, 7:128 decoder, WL buffers, precharge, sense amps, output buff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a room estimated for registers, tri-state buffers, smaller logic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M Bitcell Simul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25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ngth of the side of largest square inside cur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st Case: S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: .65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ld: .94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st Case: 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: .48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ld: .79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7920" y="2589120"/>
            <a:ext cx="3995640" cy="2398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5105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case for a SF bit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im for a Read/Write/Re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49440" y="1827360"/>
            <a:ext cx="515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im Notes R/W/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line shows CLK and Output of Tri-state buffer after a re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line show BL(blue) and BLB(red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line shows Sense Amps firing and their outp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line shows WL enabled inside of prech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line shows read/write sign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x Access Simul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73200" y="1827360"/>
            <a:ext cx="6838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ign Approa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ma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k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op-level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you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itcell Layou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ipheral and Block Layou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NM simulations of bitc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k simula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lems Encounter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tric Analys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6 Access for bloc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es a one into a block and reads it 5 times for total average power of 31 m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time for D-Q is 15.5 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output is latched on rising clock edge, with 2.5ns to propagate through register and tri-state buffe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blems Encounter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ck distribu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nough clock delays to fire sense amps at the correct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laying and buffering the prechar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low simulation ti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ring and reducing layou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ric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erage power of 1 write and 5 reads: .031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st delay: 13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Area: 32*(7,751,370 microns^2) = 248,043,840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ric= (Watts^2)*(delay in ns)*(area in um^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cKenneman’s Score=3.099E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cKenneman, Inc. has developed an efficient and power saving SRAM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Fea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 voltage op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 for controllability and observabi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lock enable signal power gates idle bloc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ign Approac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 Power SRAM running at Vdd = 2.5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gating on idle bloc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Mb of mem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de of 32 blocks of 128x256 bi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2bit words addressed with 15bi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oltage sense amp to reduce precharge pow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imizing bitcell layout to reduce overall si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chema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08200" y="1827360"/>
            <a:ext cx="69753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:128 row address decoder raises the W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:8 decoder selects the 32 columns to when writing to the mem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ach bitline has a sense amp to reduce the time each WL is enabled and reduce the amount of precharg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hain of 32 8:1 muxes after the sense amps selects the word on a read op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register latches the block output and is wired to a tri-state buffer, allowing all blocks to share one SRAM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p-Level Schema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38200" y="1827360"/>
            <a:ext cx="72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p-Leve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bits of address choose the bloc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ad, Write, and input addresses are held by regis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ying the philosophy of designing for controllability, precharge and sense amp enable are pinned o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ing for observability, a sense amp’s output is pinned out for timing verif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1600" y="1965240"/>
            <a:ext cx="683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: 19.8 microns by 8.4 micr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a: 166.32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a is saved in the array by overlapping mirrored bitcells every other row to share ground and vdd connec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4:05:04Z</dcterms:created>
  <dc:creator>ITC Labs and Classrooms</dc:creator>
  <dc:description/>
  <dc:language>en-US</dc:language>
  <cp:lastModifiedBy>ITC Labs and Classrooms</cp:lastModifiedBy>
  <dcterms:modified xsi:type="dcterms:W3CDTF">2007-12-06T18:27:41Z</dcterms:modified>
  <cp:revision>5</cp:revision>
  <dc:subject/>
  <dc:title>McKenneman, Inc. SRAM Proposal</dc:title>
</cp:coreProperties>
</file>